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461-78A1-4497-A501-ADBF9E5B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715-050D-426E-A8A9-4DD10C63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EEE-DF0D-4F3F-A489-FDB2AB84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9BC-163B-42F8-A5E1-07516BF9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420-F368-4CC1-9010-7774C920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597-64C3-4D20-9B78-5AFF835C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AC1-0CA0-4BC7-8FCD-C473A97C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DAE-996A-46EE-B99A-E82E0941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7F4-AA26-4D5C-AAC1-436B38C9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009-F877-4790-BE59-D7E0AE68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EBE-4935-4FF7-8C7D-F41EB863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AE5-0462-48BF-8209-23BA4BE5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889BF1-1152-43D1-A202-ACB19B031135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on mixed effects modell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115920"/>
          <a:ext cx="799308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9308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459-7301-43BD-929D-A24DF98D7EF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84360" y="115920"/>
          <a:ext cx="7704000" cy="59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5920"/>
                    <a:ext cx="7704000" cy="59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B53-3AF7-4A0B-9BF5-E90E2CFC99E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Variance compon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GLMM.Alcyonacea, corr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ta: Bentho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IC      BIC    logLik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338.8218 371.0074 -157.41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667752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Plot %in%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Residual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5896012 2.5099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riance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fixed weight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invwt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Alcyonacea ~ Topography + I(Impact * cbind(nsi(Intensity),    bin(Time))) + offset(log(SweptArea)) 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F35-51E1-4901-927E-99A3937D82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produces a result where the components of variance are smaller than the underlying Poisson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useful way of isolating various parts of the model to reveal (perhaps speculatively!) the fixed patter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ood way of handling overdispersion – close connection between GLMMs and Negative Binomi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ill somewhat controversial.  The inference process is still a matter of deb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93F-3B33-46A8-B393-48C3B92CFA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ird non-linear example: the muscl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92360" y="2193840"/>
          <a:ext cx="561636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93840"/>
                    <a:ext cx="561636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303920" y="1427040"/>
            <a:ext cx="626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log(Length) ~ Conc | Strip, muscle, as.table = 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CF0-CBB8-41BF-AE72-4603932D9B5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fit: fixed effects on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ggested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43 parameters with only 61 points.  Special care needs to be taken with fitting th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“plinear” algorithm both to simplify the model specification and to make the fitting process more robu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ed to specify the non-linear parameters on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n re-fit the model in a standard way to simplify predictions from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79640" y="2060640"/>
          <a:ext cx="475308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060640"/>
                    <a:ext cx="4753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DCD-6386-47A3-83C5-378A4129E0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model.matrix(~Strip - 1, muscle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1 &lt;- nls(log(Length) ~ cbind(X, X*rho^Conc), muscle, start = c(rho = 0.1), algorithm = "plinear"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as.vector(coef(muscle.nls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it &lt;- list(rho = b[1]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lpha = b[2:22], beta = b[23:43]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2 &lt;- nls(log(Length) ~ alpha[Strip] + beta[Strip]*rho^Conc, muscle, start = ini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BA2-EA3E-423D-98D1-5F10D9B3CDC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 and presentation of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expand.grid(Conc = seq(0.25, 4, len=20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p = levels(muscle$Strip), Length = 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rbind(muscl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Muscle[order(Muscle$Strip, Muscle$Conc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fit &lt;- predict(muscle.nls2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fit ~ Conc|Strip, Muscle, type = "l"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A7D-C6B2-4BCF-9E8D-F56C59EC96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75B-7C1A-4D52-B4D3-ED20BA953952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mixed effect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0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.nlme &lt;- nlme(log(Length) ~ alpha + beta*rho^Conc, muscl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xed = rho+alpha+beta ~ 1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dom = alpha + beta ~ 1|Strip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va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RandomFit &lt;- predict(muscle.nlm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RandomFit ~ Conc|Strip, Muscle, type = "l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ines(x, Muscle$fit[subscripts]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817-0BEA-4D3C-8363-5C4FC27756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Generalized Linear Mix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overy of the benthos after trawling on the Great Barrier Reef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6 Control plots, 6 Impact plo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isited 2 times prior to treatment and 4 times afterwards – longitudinal stu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pection is by Benthic sled.  The total number of animals of each species is counted for each trans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 trawl intensity in the transe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tal ‘swept area’ of the sled video camer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pography (Shallow or Deep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DC5-E496-4F0B-A4FA-A592A12821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C94-4927-48F3-B237-FFCE250F6769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muscle.nlm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on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 log(Length) ~ alpha + beta * rho^Conc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list(alpha ~ 1, beta ~ 1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vel: Stri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     Corr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  0.16991613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   0.88268573 0.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idual 0.07692169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rho + alpha + beta ~ 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lue  Std.Error DF  t-value p-valu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 0.094083 0.01349832 37  6.96996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3.363546 0.04486974 37 74.96247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-2.817441 0.29503865 37 -9.54940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Correlation: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0.371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0.546 0.2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andardized Within-Group Residual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          Q1         Med          Q3         Max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-1.66713635 -0.34229465 -0.08582487  0.35210281  2.843345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Observations: 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Groups: 2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2F8-1A7C-45A8-83AA-99C3B673235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plinear” algorithm offers an effective way of using the simplicity of linear paramete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effects can be very tricky, but offer a way of “borrowing strength” from one group to another, in order to gain a more holistic representation of the process generating th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5F1-EEF1-4C05-88FC-A43647BDCEE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each species the total count for a control or pre-experiment treatment plot has a distribution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a post-experiment treatment plot the distribution is similar, but the Poisson mean has additional term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extra terms are a spline term in mean trawl intensity and a factor term to allow for recove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2781360"/>
          <a:ext cx="784836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81360"/>
                    <a:ext cx="78483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89080" y="4307040"/>
          <a:ext cx="669780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4307040"/>
                    <a:ext cx="6697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27D-BA8A-4E5E-93EC-8F4E40DBD4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functions an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Species &lt;- scan("SpeciesNames.csv", what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match(Species, names(Bentho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bin &lt;- function(fac, all = F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binary matrix for a factor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ac &lt;- as.factor(fac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X &lt;- outer(fac, levels(fac), "==") +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if(all) X else X[, -1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i &lt;- function(x, k = 3, Intensity = Benthos$Intensity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natural spline in intensit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knots &lt;- as.vector(quantile(unique(Intensity), 0:k/k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(x, knots = knots[2:k], Boundary.knots = knots[c(1, k + 1)]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uard &lt;- function(x) ifelse(x &lt; -5, NA, 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78C-AC72-470E-9671-241FEE1D75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tting up the prediction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rs &lt;- c("Cruise", "Plot", "Months", "Treatme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"Time", "Impact", "Topography", "Unity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with(Benthos, tapply(Intensity, Impact, mean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sa &lt;- mean(Benthos$SweptAre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transform(Benthos[, vars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nths = as.numeric(as.character(Months)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ntensity = vals[factor(Impact)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weptArea = rep(msa, nrow(Bentho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newData[order(Benthos$Months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63F-AEE7-40F2-AA45-DDA5F80608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key spec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nt(Species, quot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] Alcyonacea                Annella.reticulata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3] Ctenocella.pectinata      Cymbastela.coralliophil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5] Dichotella.divergens      Echinogorgia.sp.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7] Hypodistoma.deeratum      Ianthella.flabelliformis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9] Junceella.fragilis        Junceella.juncea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1] Nephtheidae               Porifera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3] Sarcophyton.sp.           Scleractinia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5] Solenocaulon.sp.          Subergorgia.suberosa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7] Turbinaria.frondens       Xestospongia.testudinaria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are names of some columns in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nthos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data fram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need to fit the master model for each and produce plots of the fixed and random eff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EDE-C26F-44DD-A556-F9D84B8274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trick: fitting multiple similar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itCommand &lt;- Quote(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m &lt;- glmmPQL(Species ~ Topography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ff0000"/>
                </a:solidFill>
                <a:latin typeface="Courier New"/>
              </a:rPr>
              <a:t>I(Impact * cbind(nsi(Intensity), bin(Time)))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offset(log(SweptArea)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andom = ~1|Cruise/Plo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amily = poisson, data = Benthos, verbose = 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DB4-0E6F-471C-A15E-A9D7242018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the trick to wor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pno &lt;-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start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name &lt;- paste("GLMM", Species[spno], sep=".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name &lt;- Species[spno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hisFitCommand &lt;- do.call("substitute", list(fitCommand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st(fm = as.name(mname), Species = as.name(sname)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eval(thisFitCommand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int(spno &lt;- spno +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end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objects(pat = "GLMM.*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GLMM.Alcyonacea"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] "GLMM.Annella.reticulata"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3] "GLMM.Ctenocella.pectinata"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4] "GLMM.Cymbastela.coralliophila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340-AA35-475B-8D70-494E625B30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 &lt;- predict(GLMM.Alcyonacea, newData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0 &lt;- predict(GLMM.Alcyonacea, newData, level=0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aphics.off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ellis.device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guard(pfm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log(mean)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and random effects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exp(pfm0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mean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effects only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0A1-F5DC-4D07-94A8-27E20F32D2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12Z</dcterms:modified>
  <cp:revision>18</cp:revision>
  <dc:subject/>
  <dc:title>S-PLUS, An Introduction to the System</dc:title>
</cp:coreProperties>
</file>